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2338-7CAD-4AF1-A9B9-52B6A94E68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7B66-6332-4B03-87DF-3197A74543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E6C-D59B-4EFE-954D-FD083A1C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99E-B87B-48F5-B23C-AEB1ADBB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2AB-3A4D-4DBB-9C15-0ED6A534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8E5-58BB-4978-B5C6-AE3B66F6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11B2-D57D-4EE3-97AF-D9F38661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855F-BDC5-46B0-BD74-C5F1B9CA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A23C-A16F-4BB8-8274-ED53B3F5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D208-5C80-42F6-87FF-ACA9ABDD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B446-85C3-464E-AAF8-D3FD4002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B672-CFB8-416B-AEB9-31CAC091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F8F2-67C1-463C-B92C-99CBF006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482-27A6-47F4-A0D2-BD1187C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EC02-A567-4DFD-9A2C-DDD2CCAF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59EB-66FF-4DC7-8AAB-13CBDB95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2400-4C13-4FEA-9D6E-B666CDF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A194-AE6D-444F-B1A8-E0F09E04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2509-1584-4018-8045-366D2178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4450-128C-4783-A43E-22171523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7846-B770-4925-8D80-664E0E5E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2231A-E2E4-4483-BC7B-6B0DBEED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EB86-D01E-4DD0-B439-F8A96C57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E396-8ABD-404C-9B78-95DAC824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9E1-A9CF-4F26-85F6-C49D80B8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7526-D9C8-429D-9BD1-ED517400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F407-4B12-4FFA-8071-D82ACCC3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CCD7-F46F-4F88-B7AD-07695BB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E779-3C24-47D6-AA83-288FE46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E6C3-E09A-4BDB-9179-E98D13C2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234A-085E-44D1-86D7-6F831BBE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7E04-BE10-4DE2-97C7-AC59CF64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BCE3E-35E3-47FA-B3A3-975BC63C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12C64-D788-4993-8995-694DFC52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7E25B-90CB-4E4E-9D91-02112A64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CD3-3163-431B-AF4C-5D282857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7AA6-BE14-420F-AD13-18DA65E5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63D63-A6AC-49AD-B028-D8A788E6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04F2-EAA1-463C-A6C1-80F352A6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9C654-EBDE-4415-93B8-E6B74CA3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C5B7-0443-4945-AE49-6D48B798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FAAF0-FB46-4F1F-9B8D-933C1CEC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B823-7DB2-4E31-A0AD-70CB912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5A048-E1C0-4E12-93FC-80F64BB5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CD8C-A731-47EA-901D-258805A2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9E527-B299-4F55-A503-ECA6E1FD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070-C693-4B08-AC30-B02D3F92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1C65C-B107-42A9-9D42-60D16E4F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B36A-69CE-49C2-8D8C-19006C1C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BB3BC-2BBD-462C-BDF2-43BFA35D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13399-ECBD-4176-A098-A08EC5A6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EA61D-75FE-44C9-ACAB-815A1C8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4A0E7-FA7A-45E7-AA9A-91809499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4DE2B-4ED4-4EA7-8511-7210E6B3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CC29D-7279-4EDD-8CF5-AB0FE3BB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865F7-4682-4E4A-B344-6CF1A6C8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713D5-697F-4428-B817-85C8D687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342-A066-44A1-B20B-F6691069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F6878-9417-4A8F-A97A-CAB874C5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5FF-9147-4F30-9A5A-F4EE7DBB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B7D-E386-4662-B2B6-B8A9BC57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2EE-B933-42F7-B499-E31E7497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1BD0-B51C-45A1-ADD1-860C77FDFB7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A740-FCA6-4647-BB43-3034754FC91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FF79-AB7A-4F72-8A83-01FD282E4BA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C3E5-26B8-4057-8496-11C448F1787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D11B-F8AB-4123-B896-76E46495712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DE8D-F55E-4206-A42E-35204D4D3F0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166680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Comment faire adorer le Français aux enfants de 5 à 10 an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000000"/>
                </a:solidFill>
                <a:latin typeface="Perpetua"/>
              </a:rPr>
              <a:t>Merci!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DFD5-5563-4F86-B771-B67464FD5EE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Sommai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20EA-F4F3-4A1D-A9F6-410B8CF9AE1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"/>
              </a:rPr>
              <a:t>Comment se déroule une séance de la Petite Écol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"/>
              </a:rPr>
              <a:t>Jeux et chansons par thèm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Perpetua"/>
              </a:rPr>
              <a:t>Supports pour l’apprentissage par l’écrit et la lectu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Publi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933C-9F3D-495B-82DD-3D561E0E9FC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Nécessité d’une approche pédagogique indépendante de la grammaire et conjugais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Importance de la variété des activit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Thèmes récurr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Attitude vis-à-vis de la langue étrangè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96464"/>
                </a:solidFill>
                <a:latin typeface="Franklin Gothic Book"/>
              </a:rPr>
              <a:t>Une séance typique de la Petite Écol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88E7-97C9-4F45-89AE-286CA80D79D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1/ Accuei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Bonjour! 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Comment ça va?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Je suis là. Il/Elle n’est pas là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Date et Météo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2/ La ronde des questions: révisions et introduction d’une nouvelle question et répons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3/Sujet du jour: Écouter, Répéter, Repérer, Lire, Écrir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La famill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Les adjectif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Les couleur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Jours de la semaine et mois de l’anné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Chiffre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Aliment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Perpetua"/>
              </a:rPr>
              <a:t>Etc…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39996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4/Jeu, activité motrice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5/ Histoire ou Chans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696464"/>
                </a:solidFill>
                <a:latin typeface="Franklin Gothic Book"/>
              </a:rPr>
              <a:t>Jeux et chanson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78BD-FFF4-47A6-AF41-5A8CBF7DBB2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Perpetua"/>
              </a:rPr>
              <a:t>La famill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Exercice interactif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Language Tre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Arbre généalogiqu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Perpetua"/>
              </a:rPr>
              <a:t>Les adjectif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1, 2, 3 Soleil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Flashcards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Perpetua"/>
              </a:rPr>
              <a:t>Les couleur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Ligne des couleurs ou ‘Attention Tempête en mer’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À la chasse au… ‘bleu’!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Coloriage, peintur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Perpetua"/>
              </a:rPr>
              <a:t>Twister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7FDA-425A-4084-A5CE-CAA7CF02F0B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chiff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Poissons-pêcheu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1, 2, 3 j’irai dans les bois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Trouver nombre d’objets sur un dess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jours de la sema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Ronde de la sema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Lundi matin…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animaux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Mémo des animau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L’araignée Gipsy’, ‘Nage, nage petit poisson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8C26-AB47-42B2-8B01-E2AE7B36CAA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objets, les ali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Flashcards, compéti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Au clair de lune, tous les légumes’, ‘C’est un petit bonhomme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Loto de la maison (et prépositions de lieu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s vêteme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‘</a:t>
            </a: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Loup y es-tu?’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Attention tempête en m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Perpetua"/>
              </a:rPr>
              <a:t>Le corp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Jacques a di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Exercice interactif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Twis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Autres jeux et chans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 rot="16200000">
            <a:off x="2340000" y="-98280"/>
            <a:ext cx="4608360" cy="79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auter, tourner, marcher en musi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Mon petit lap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Qui-est-c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ur le pont d’Avign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Pirouette, Cacahuè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tc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811-8DAE-465D-8FF7-A767D4D2E53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696464"/>
                </a:solidFill>
                <a:latin typeface="Franklin Gothic Book"/>
              </a:rPr>
              <a:t>Supports pour la lecture et l’écritur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nchanted Learn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Learning French – Début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Mes premiers pas en França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EA7D-C444-413F-8197-890422A1007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7:58:17Z</dcterms:created>
  <dc:creator>TXPB0017</dc:creator>
  <dc:description/>
  <dc:language>en-US</dc:language>
  <cp:lastModifiedBy>Owen</cp:lastModifiedBy>
  <dcterms:modified xsi:type="dcterms:W3CDTF">2011-08-31T11:37:50Z</dcterms:modified>
  <cp:revision>8</cp:revision>
  <dc:subject/>
  <dc:title>Projet de Camille Potoudis "Sortie"</dc:title>
</cp:coreProperties>
</file>